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642C-DEF2-4DF3-AEB4-62CE53FD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7A9-75AB-484F-831D-63405202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3EB-1174-43B3-8F15-1B7E2D9D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6269-98B4-4A5D-95DF-41C6B451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0938-84BB-459E-8DB4-207AAECD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932-9BCD-4752-8E4F-614EBEA1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1EED-8246-4280-946B-9CFEB5E3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7B77-DD0E-4BD7-9C33-4F31EAF7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90F-4C1B-4868-9422-55391F9A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2B2-1450-4DE9-87E9-01FC934B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9EE6-21A8-4258-885F-756D057D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07C-2C04-4E8D-9DFA-E6C4CC01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53B9-64FE-4884-92E5-7CEE1DB0B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texasbluebonnetaward2013.wordpress.com/master-list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200400" y="152280"/>
            <a:ext cx="54864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2012 – 20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rbel"/>
              </a:rPr>
              <a:t>Elementary Level B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NameThatBook_logo"/>
          <p:cNvPicPr/>
          <p:nvPr/>
        </p:nvPicPr>
        <p:blipFill>
          <a:blip r:embed="rId1"/>
          <a:stretch/>
        </p:blipFill>
        <p:spPr>
          <a:xfrm>
            <a:off x="838080" y="457200"/>
            <a:ext cx="2286000" cy="17049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457200" y="3048120"/>
            <a:ext cx="83818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ultivating social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Making reading relevant to the 21st 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Bringing joy to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51ZqJGpKskL"/>
          <p:cNvPicPr/>
          <p:nvPr/>
        </p:nvPicPr>
        <p:blipFill>
          <a:blip r:embed="rId1"/>
          <a:stretch/>
        </p:blipFill>
        <p:spPr>
          <a:xfrm>
            <a:off x="1676520" y="380880"/>
            <a:ext cx="53719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Missing May"/>
          <p:cNvPicPr/>
          <p:nvPr/>
        </p:nvPicPr>
        <p:blipFill>
          <a:blip r:embed="rId1"/>
          <a:stretch/>
        </p:blipFill>
        <p:spPr>
          <a:xfrm>
            <a:off x="2590920" y="1447920"/>
            <a:ext cx="34671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51L6inB%2BAFL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over image for Shiloh"/>
          <p:cNvPicPr/>
          <p:nvPr/>
        </p:nvPicPr>
        <p:blipFill>
          <a:blip r:embed="rId1"/>
          <a:stretch/>
        </p:blipFill>
        <p:spPr>
          <a:xfrm>
            <a:off x="2362320" y="380880"/>
            <a:ext cx="41749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414GRLBwDkL"/>
          <p:cNvPicPr/>
          <p:nvPr/>
        </p:nvPicPr>
        <p:blipFill>
          <a:blip r:embed="rId1"/>
          <a:stretch/>
        </p:blipFill>
        <p:spPr>
          <a:xfrm>
            <a:off x="1981080" y="304920"/>
            <a:ext cx="49914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Where the Red Fern Grows: Mcdougal Littell Literature Connections"/>
          <p:cNvPicPr/>
          <p:nvPr/>
        </p:nvPicPr>
        <p:blipFill>
          <a:blip r:embed="rId1"/>
          <a:stretch/>
        </p:blipFill>
        <p:spPr>
          <a:xfrm>
            <a:off x="2514600" y="14479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511pgQ866VL"/>
          <p:cNvPicPr/>
          <p:nvPr/>
        </p:nvPicPr>
        <p:blipFill>
          <a:blip r:embed="rId1"/>
          <a:stretch/>
        </p:blipFill>
        <p:spPr>
          <a:xfrm>
            <a:off x="2190600" y="10476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762120" y="838080"/>
            <a:ext cx="80010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that Book - Book covers from Amazon.com and Follett Libr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bonnet Books - Book co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exasbluebonnetaward2013.wordpress.com/master-list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809880" y="838080"/>
            <a:ext cx="361980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666880" y="7621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over_image"/>
          <p:cNvPicPr/>
          <p:nvPr/>
        </p:nvPicPr>
        <p:blipFill>
          <a:blip r:embed="rId1"/>
          <a:stretch/>
        </p:blipFill>
        <p:spPr>
          <a:xfrm>
            <a:off x="2871720" y="1676520"/>
            <a:ext cx="2192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4197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2"/>
          <p:cNvSpPr/>
          <p:nvPr/>
        </p:nvSpPr>
        <p:spPr>
          <a:xfrm>
            <a:off x="3143160" y="2000160"/>
            <a:ext cx="2857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"/>
          <p:cNvSpPr/>
          <p:nvPr/>
        </p:nvSpPr>
        <p:spPr>
          <a:xfrm>
            <a:off x="3143160" y="2000160"/>
            <a:ext cx="285768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Joey Pigza Loses Control by Jack Gantos"/>
          <p:cNvPicPr/>
          <p:nvPr/>
        </p:nvPicPr>
        <p:blipFill>
          <a:blip r:embed="rId1"/>
          <a:stretch/>
        </p:blipFill>
        <p:spPr>
          <a:xfrm>
            <a:off x="2514600" y="9907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6:00:42Z</dcterms:created>
  <dc:creator>HISD</dc:creator>
  <dc:description/>
  <dc:language>en-US</dc:language>
  <cp:lastModifiedBy>HISD</cp:lastModifiedBy>
  <dcterms:modified xsi:type="dcterms:W3CDTF">2012-05-11T16:02:05Z</dcterms:modified>
  <cp:revision>1</cp:revision>
  <dc:subject/>
  <dc:title>Slide 1</dc:title>
</cp:coreProperties>
</file>